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987-EC96-4B80-BB4F-3FC79A15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0F4-E4D6-4EC7-B96A-E24C553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F5E-524A-4FB9-B18E-270F14F6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E4D-681A-43CA-8B51-F663A4E6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87D8-B466-444E-A758-FB6440F0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E538-3CBA-403D-8BEA-D9B3B99E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E151-C28A-4D52-8B37-D152FBEA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FAC9-1A3B-470F-85D3-73C52213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B6D1-AAD8-409C-86F6-8B7359F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AD06-3839-44A5-B351-483FC50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C6F0-5D78-4989-AFF3-71D8BF1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007-4B43-4F6B-9BE7-2899EE10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67C3-04A1-472E-B5DE-D9BC042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2E8-3099-4227-BFC7-AED7D1C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25EA-BE1D-4679-86E6-9A8090DE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B16F-2C1B-4F16-B0E7-35C14AD2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0CC9-20FB-4E04-A77C-74AC47A1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4723-6925-46D1-BD73-E4E39E13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EED6-C049-4D4E-AD27-0BB7454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370A-5B08-4101-8948-91769C3F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2F2E-000D-4DB8-951F-36F797CF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9150-A12E-4660-BA6B-0BE621A3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CEB-9977-4CCE-AC07-54578062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8673-DDC2-4275-9546-067162D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64A8-4029-42BB-AA6B-83D8C272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40E8-2F88-47C6-AA15-1BFEDF2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5CD9-15A5-4C32-ADA3-CB9867B9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4AF5-6FD1-4AA6-92A4-83B83723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E9F4-E1F1-42F1-8F0A-0334E441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2067-FF62-4ADD-8DF4-CA6ABAF4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0A96-D143-4209-882D-1AF5AE8B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0F54-18C8-4768-8905-486100F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A0905-0EE6-4B73-9B9B-A2281F84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FD6-AB62-4102-AE85-3B39A1D2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477C-5D4B-4DD7-A58F-3B84DC2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457A-2853-4661-8862-4D3F5CCA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0319-D330-4F7A-A26C-A68CB1C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2249-0414-423C-819E-792C38C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3D120-6410-4741-ABBD-10A215B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3A17-F3CC-4C24-AF37-487B584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BB76-0001-4839-B94E-AAA42F1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9214-9692-4951-8ED4-C42185A2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98A9-2904-40FE-BF36-3CEBAFD3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8834E-997B-4606-BE53-1D11BE66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F6F-E939-4658-B6D9-9D36927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584FC-FA52-4A0F-8503-42C43D0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3D5A-F779-4DDC-A118-0ADD12FF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A3B4-3439-4D76-9B32-05BFDCDD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82CA2-334E-40B6-B013-41033404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07DD-BFF3-4243-A7ED-8F9DD3BD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C42C-3F36-4E65-90AE-C6061C7E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ED63-B178-4EF3-9FD4-CEA6358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D2F0-49A7-420A-91D8-2C76A48E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F862-C5D3-4FD8-A34E-BA4CC46E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5E53-D133-4DA8-8923-DBD55CE6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9B8-A1E8-43CA-A346-880FF1C7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B74A-7698-49B7-8E75-1F9F99D2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CF51-64EA-484D-AAB9-C774B643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D207-D04C-462F-8A99-00018EB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E1C83-A3A7-4FD2-8A3B-518A749F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599E3-B26C-4B37-A29F-3B8EACD5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3044-DB22-465B-AD6E-11ECA4F5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9CA73-65F1-4DC3-9834-AB9834CD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BD9DB-2665-497A-8547-FC7E165E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17EF9-0623-46CD-A1C4-D63E46A7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5F3CF-1448-4DD8-9654-B973540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8C8-671C-44B9-B332-EFBEC57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9151-9E2F-4A5C-8186-F0D349C3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2691-D9AB-4FFA-84A6-2DD13F16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868A-4A11-4497-B412-3796B9C1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79DC9-A0FE-4D74-89A0-21CAD5F6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1C5B1-5E0A-44BF-83CF-B765BCC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19FD-6A53-4093-A0A6-0DE52DF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6EF36-F774-48A8-B7D6-B724A3AD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21ADB-D12B-41D3-BB13-2C3C4269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3F3D-8C9A-4D6D-93A2-77F42A55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BB02-D8DE-40A7-B0BA-75C9772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AE3-1522-4222-ABB7-43AD1285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8336-09C5-4DFA-8587-E35DCC8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D57E8-33E4-46AC-B7C4-10026C54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1D4F-7F47-46F8-9C44-E12D002F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4550B-9649-4311-A5F6-CB101C37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A563-871B-4EF8-96F6-FAC2270B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500-0346-4358-B722-4B679C8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7891-1C49-413F-8907-F8FDA6B4AC1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71E-E626-4EB6-8763-C769160264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233D-9E1F-449C-8766-ECCE803011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5CE5-DAAD-4089-9663-3B1487FC743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6B96-9188-409A-95B3-8E5861CF5D2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21D4-75F7-47A7-97B6-106152CB070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69C-E7AB-417E-943A-6AD249816D6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1664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56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Относись к людям так, как бы ты хотел, чтобы относились к теб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«Если  тебе  плохо,  найди  того,  кому  еще  хуже  и  помоги ему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Поставь себя на место того, кого ты осуждаешь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все терпимые и терпеливы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добрые, любящ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уважающие, понимающие, поддерживающие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окружающие друг друга забот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внимательные, отзывчивые, интересующиеся планами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успешные, независимые, счастливые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Содержимое 2"/>
          <p:cNvSpPr/>
          <p:nvPr/>
        </p:nvSpPr>
        <p:spPr>
          <a:xfrm>
            <a:off x="539640" y="163980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хочу больше внутренней мёртвост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поскольку всесилен Ты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чёрств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сцели от глухой слепоты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Я не вижу огромной важности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бесценности важных минут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праздн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позволь ей меня обмануть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Попрошу с неотступною твёрдостью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вечной Твоей любв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горд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створённой в моей кров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Жизнь так мало во мне оставила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Доброты и тепла для людей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дьявола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страшной жертвы Тво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.mp4" descr=""/>
          <p:cNvPicPr/>
          <p:nvPr/>
        </p:nvPicPr>
        <p:blipFill>
          <a:blip r:embed="rId1"/>
          <a:stretch/>
        </p:blipFill>
        <p:spPr>
          <a:xfrm>
            <a:off x="111240" y="1628640"/>
            <a:ext cx="8926560" cy="5021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7" descr=""/>
          <p:cNvPicPr/>
          <p:nvPr/>
        </p:nvPicPr>
        <p:blipFill>
          <a:blip r:embed="rId2"/>
          <a:stretch/>
        </p:blipFill>
        <p:spPr>
          <a:xfrm>
            <a:off x="244440" y="55440"/>
            <a:ext cx="890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78000" y="2273400"/>
            <a:ext cx="84420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Молодые строптивы без послушания и уважения к старшим. Истину отбросили, обычаев не признают. Никто их не понимает, и они не хотят, чтобы их понимали. Несут миру погибель и станут последним его пределом» (надпись на гробнице фараона, ок. 3500 лет до н.э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К старости недостатки ума становятся всё заметнее, как и недостатки внешности» (Ф.Ларошфуко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Нет ничего безобразнее старика, который не имеет других доказательств пользы его продолжительной жизни, кроме возраста» (Сене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122400"/>
            <a:ext cx="8242200" cy="1225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ia</a:t>
            </a: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испанский) – способность признавать отличные от своих собственных идеи и мне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tolerance 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e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нглийский) – готовность быть терпимым, снисходительность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rbel"/>
              </a:rPr>
              <a:t>kuan rong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asamul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рабский) – прощение, снисходительность, мягкость, милосердие, сострадание, терпение, расположенность к други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терпимость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8"/>
          <p:cNvSpPr/>
          <p:nvPr/>
        </p:nvSpPr>
        <p:spPr>
          <a:xfrm>
            <a:off x="755640" y="1341360"/>
            <a:ext cx="230364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рпимо относиться к чужим мнениям, поведен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Овал 9"/>
          <p:cNvSpPr/>
          <p:nvPr/>
        </p:nvSpPr>
        <p:spPr>
          <a:xfrm>
            <a:off x="3708360" y="692280"/>
            <a:ext cx="2158920" cy="14414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Овал 10"/>
          <p:cNvSpPr/>
          <p:nvPr/>
        </p:nvSpPr>
        <p:spPr>
          <a:xfrm>
            <a:off x="6372360" y="1413000"/>
            <a:ext cx="223200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Овал 11"/>
          <p:cNvSpPr/>
          <p:nvPr/>
        </p:nvSpPr>
        <p:spPr>
          <a:xfrm>
            <a:off x="539640" y="3141720"/>
            <a:ext cx="223200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страд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Овал 12"/>
          <p:cNvSpPr/>
          <p:nvPr/>
        </p:nvSpPr>
        <p:spPr>
          <a:xfrm>
            <a:off x="6732720" y="3284640"/>
            <a:ext cx="216036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человеческоедостоин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Овал 13"/>
          <p:cNvSpPr/>
          <p:nvPr/>
        </p:nvSpPr>
        <p:spPr>
          <a:xfrm>
            <a:off x="971640" y="4869000"/>
            <a:ext cx="2232000" cy="151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друг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Овал 14"/>
          <p:cNvSpPr/>
          <p:nvPr/>
        </p:nvSpPr>
        <p:spPr>
          <a:xfrm>
            <a:off x="3708360" y="5229360"/>
            <a:ext cx="2232000" cy="1490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нять другого таким, какой он е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Овал 15"/>
          <p:cNvSpPr/>
          <p:nvPr/>
        </p:nvSpPr>
        <p:spPr>
          <a:xfrm>
            <a:off x="6300720" y="5013360"/>
            <a:ext cx="2303640" cy="1440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милосердны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19"/>
          <p:cNvSpPr/>
          <p:nvPr/>
        </p:nvSpPr>
        <p:spPr>
          <a:xfrm>
            <a:off x="3276720" y="2708280"/>
            <a:ext cx="3095640" cy="19954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олер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ая соединительная линия 21"/>
          <p:cNvSpPr/>
          <p:nvPr/>
        </p:nvSpPr>
        <p:spPr>
          <a:xfrm flipH="1">
            <a:off x="5724000" y="2421000"/>
            <a:ext cx="792360" cy="7920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рямая соединительная линия 25"/>
          <p:cNvSpPr/>
          <p:nvPr/>
        </p:nvSpPr>
        <p:spPr>
          <a:xfrm flipV="1">
            <a:off x="4932360" y="3406680"/>
            <a:ext cx="770040" cy="3096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8"/>
          <p:cNvSpPr/>
          <p:nvPr/>
        </p:nvSpPr>
        <p:spPr>
          <a:xfrm>
            <a:off x="4823640" y="2708280"/>
            <a:ext cx="878040" cy="9144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 flipH="1" flipV="1">
            <a:off x="4787640" y="2133720"/>
            <a:ext cx="36360" cy="574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40"/>
          <p:cNvSpPr/>
          <p:nvPr/>
        </p:nvSpPr>
        <p:spPr>
          <a:xfrm>
            <a:off x="2916360" y="2492280"/>
            <a:ext cx="1706400" cy="14907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45"/>
          <p:cNvSpPr/>
          <p:nvPr/>
        </p:nvSpPr>
        <p:spPr>
          <a:xfrm>
            <a:off x="6012000" y="3860640"/>
            <a:ext cx="720720" cy="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52"/>
          <p:cNvSpPr/>
          <p:nvPr/>
        </p:nvSpPr>
        <p:spPr>
          <a:xfrm flipV="1">
            <a:off x="2556000" y="3715920"/>
            <a:ext cx="863640" cy="730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56"/>
          <p:cNvSpPr/>
          <p:nvPr/>
        </p:nvSpPr>
        <p:spPr>
          <a:xfrm>
            <a:off x="4788000" y="4653000"/>
            <a:ext cx="0" cy="5763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66"/>
          <p:cNvSpPr/>
          <p:nvPr/>
        </p:nvSpPr>
        <p:spPr>
          <a:xfrm flipV="1">
            <a:off x="2843280" y="4411440"/>
            <a:ext cx="885600" cy="817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70"/>
          <p:cNvSpPr/>
          <p:nvPr/>
        </p:nvSpPr>
        <p:spPr>
          <a:xfrm>
            <a:off x="5795280" y="4292640"/>
            <a:ext cx="841320" cy="9316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9283680" cy="153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4105440" cy="499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rcRect l="0" t="0" r="28092" b="0"/>
          <a:stretch/>
        </p:blipFill>
        <p:spPr>
          <a:xfrm>
            <a:off x="435600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rcRect l="11765" t="0" r="3257" b="0"/>
          <a:stretch/>
        </p:blipFill>
        <p:spPr>
          <a:xfrm>
            <a:off x="4284720" y="1628640"/>
            <a:ext cx="4680000" cy="4464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rcRect l="13096" t="0" r="17859" b="0"/>
          <a:stretch/>
        </p:blipFill>
        <p:spPr>
          <a:xfrm>
            <a:off x="8892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4"/>
          <a:srcRect l="11765" t="0" r="3257" b="0"/>
          <a:stretch/>
        </p:blipFill>
        <p:spPr>
          <a:xfrm>
            <a:off x="435600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31840" y="-30240"/>
            <a:ext cx="8845560" cy="1425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Что является причиной конфлик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дные привыч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ньг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ла по хозяйств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чёба, рабо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ношения между членами семь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верять друг друг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 повышать голос друг на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слышать и слушат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дать совет, выслушать совет друго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поддержать в трудную минут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араться понять друг друга в любой ситу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43:59Z</dcterms:created>
  <dc:creator>wEDOK</dc:creator>
  <dc:description/>
  <dc:language>en-US</dc:language>
  <cp:lastModifiedBy>wEDOK</cp:lastModifiedBy>
  <dcterms:modified xsi:type="dcterms:W3CDTF">2011-12-18T20:41:28Z</dcterms:modified>
  <cp:revision>48</cp:revision>
  <dc:subject/>
  <dc:title>Классный час</dc:title>
</cp:coreProperties>
</file>